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B16F-8FC8-4800-971F-3B375EBC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1A31-2FF6-42AF-9B76-0B1B45052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F927-AA0A-4008-8B56-DE1AE2AC5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1F1A-2527-402B-9CB1-1384DA901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D97F-22BF-41B4-86FC-9C0EE826D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EB22-7585-4598-9DB8-F2337D763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F0F7-FE6D-45D9-B6A1-FBA4C3DD6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33BB-DD10-42B4-BC08-AFBC59BC9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B192-842E-4EA5-A8A2-C2B863BF0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E827-2E7D-41EF-9722-C9B39F905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D0A8-1342-461E-B9FE-F76BA648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A889-E370-4A61-A2D5-E76141967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CE14-EAE6-4D0B-9C92-6FFEF8299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899-6A7D-4791-BEED-4B77653519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288-4E18-40D4-A9DC-5CDFC74BFE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FBE9-FFD2-4D05-A7AC-1D9B8558D2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eveloping a 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PR Expectation provi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r. 8 NSN 3.0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OR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r. 9 NA 1.0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either BIN 3 or BIN 4 to use as a lens to filter the expectation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Optional) Choose a mathematical process to incorporate with the expectation and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a Learning Goa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60F-ED2C-4634-92DD-435E91E867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(on Post Its) using your Learning Goal and a mathematical process as your lens for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cording Template for sharing</a:t>
            </a: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 (chart paper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E91D-B7F2-455D-8407-A4D2618063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62120" y="1752480"/>
            <a:ext cx="76960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c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ig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athematical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riteria for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334120" y="3505320"/>
            <a:ext cx="251460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udent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dback provided on Post-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620120" y="4267080"/>
            <a:ext cx="3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620120" y="5181480"/>
            <a:ext cx="380880" cy="4572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105520" y="4724280"/>
            <a:ext cx="3808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type of feedback provided.  Consider the Learning Goal, the Big Idea, and the Mathematical Process used to inform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similarities to the feedback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an example of feedback provided that you feel wa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8T18:18:08Z</dcterms:modified>
  <cp:revision>41</cp:revision>
  <dc:subject/>
  <dc:title>&lt;Title&gt;</dc:title>
</cp:coreProperties>
</file>